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AC6-030A-46C0-ADE5-E600F693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BA7-FC76-4BF7-BA57-3182813A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E51-32BD-499E-83A7-0495C762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C32-CD57-4DE5-91BE-0A31EDC1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354-A2B6-401F-A4CA-CD03F472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267-D868-44A8-A023-A26DAA69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130-C67C-45D4-A01C-A5496276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3BB-0EED-4CCF-B6CD-58978822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D8F-CB7D-47A0-99E3-CB66760C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CEE-6341-4DB8-A346-A9F382D2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B31-924B-4AF4-96ED-4D33EBBA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D2D-F88A-46E8-9223-244E190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4A84-67BB-4F1B-B337-2004D9D59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Baseline9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Baseline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Baseline1.jpg"/>
          <p:cNvPicPr/>
          <p:nvPr/>
        </p:nvPicPr>
        <p:blipFill>
          <a:blip r:embed="rId1"/>
          <a:stretch/>
        </p:blipFill>
        <p:spPr>
          <a:xfrm>
            <a:off x="766800" y="843120"/>
            <a:ext cx="76104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Baseline2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Baseline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Baseline4.jpg"/>
          <p:cNvPicPr/>
          <p:nvPr/>
        </p:nvPicPr>
        <p:blipFill>
          <a:blip r:embed="rId1"/>
          <a:stretch/>
        </p:blipFill>
        <p:spPr>
          <a:xfrm>
            <a:off x="766800" y="809640"/>
            <a:ext cx="7610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Baseline5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Baseline6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Baseline7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Baseline8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19:58Z</dcterms:created>
  <dc:creator>zcui</dc:creator>
  <dc:description/>
  <dc:language>en-US</dc:language>
  <cp:lastModifiedBy>rbalne</cp:lastModifiedBy>
  <dcterms:modified xsi:type="dcterms:W3CDTF">2009-08-12T13:56:23Z</dcterms:modified>
  <cp:revision>23</cp:revision>
  <dc:subject/>
  <dc:title>TRAC</dc:title>
</cp:coreProperties>
</file>